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5F9F-EF77-41F3-B62F-2895F9B9C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9F22-1C11-49CE-AC30-5C9D0CCC4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8FD8-8143-419F-927B-FD54AA3B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111D-9199-4741-928C-EB0A2DC81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B2E6-A531-47B1-AB84-EA114E4F2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FEFD-9CAF-426E-B912-FD9650B65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F75A-54FD-4425-BD2D-45448C7ED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AC87-B439-41BB-9549-BD590C3F4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D79D-E506-455C-B6F3-960FFCBEC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56A5-9F0C-4B0C-9D14-E287057CF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9D16-CB41-4C67-8BBD-0410DD6E6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F363-0415-4804-B296-ADCEB8A33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762C-C3FD-40C1-851D-05B3DF749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3E51-1226-4F28-8717-C1CA538A4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CE0F-0CC8-4FF5-AE61-98C09885E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3F8B-360A-486C-AE78-EF9E50175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FD02-2FB4-4E56-BD50-2A3592BAC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AC56-D48F-467C-8EFE-46ED8190F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397E-343A-45DD-BBE1-76045FC1A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6CE7-50D6-40E6-A479-9A135A5EB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85960" y="847440"/>
            <a:ext cx="724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74293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42680" y="4146480"/>
            <a:ext cx="74293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85960" y="847440"/>
            <a:ext cx="724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3625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9680" y="1981080"/>
            <a:ext cx="3625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2680" y="4146480"/>
            <a:ext cx="3625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49680" y="4146480"/>
            <a:ext cx="3625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85960" y="847440"/>
            <a:ext cx="724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391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4400" y="1981080"/>
            <a:ext cx="2391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6480" y="1981080"/>
            <a:ext cx="2391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42680" y="4146480"/>
            <a:ext cx="2391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4400" y="4146480"/>
            <a:ext cx="2391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66480" y="4146480"/>
            <a:ext cx="2391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5960" y="847440"/>
            <a:ext cx="724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7429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5960" y="847440"/>
            <a:ext cx="724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7429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85960" y="847440"/>
            <a:ext cx="724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3625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49680" y="1981080"/>
            <a:ext cx="3625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85960" y="847440"/>
            <a:ext cx="724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85960" y="847440"/>
            <a:ext cx="724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85960" y="847440"/>
            <a:ext cx="724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3625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9680" y="1981080"/>
            <a:ext cx="3625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4146480"/>
            <a:ext cx="3625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85960" y="847440"/>
            <a:ext cx="724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3625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9680" y="1981080"/>
            <a:ext cx="3625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49680" y="4146480"/>
            <a:ext cx="3625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5960" y="847440"/>
            <a:ext cx="724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3625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9680" y="1981080"/>
            <a:ext cx="3625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46480"/>
            <a:ext cx="74293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971800" y="228600"/>
            <a:ext cx="6176880" cy="4842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100000">
                <a:srgbClr val="2424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37960"/>
            <a:ext cx="2976480" cy="484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4" descr="solutionmatrix-globe"/>
          <p:cNvPicPr/>
          <p:nvPr/>
        </p:nvPicPr>
        <p:blipFill>
          <a:blip r:embed="rId2"/>
          <a:stretch/>
        </p:blipFill>
        <p:spPr>
          <a:xfrm>
            <a:off x="808200" y="235080"/>
            <a:ext cx="16668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Line 5"/>
          <p:cNvSpPr/>
          <p:nvPr/>
        </p:nvSpPr>
        <p:spPr>
          <a:xfrm>
            <a:off x="9360" y="228600"/>
            <a:ext cx="9144000" cy="0"/>
          </a:xfrm>
          <a:prstGeom prst="line">
            <a:avLst/>
          </a:prstGeom>
          <a:ln w="28440">
            <a:solidFill>
              <a:srgbClr val="f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716040"/>
            <a:ext cx="9144000" cy="0"/>
          </a:xfrm>
          <a:prstGeom prst="line">
            <a:avLst/>
          </a:prstGeom>
          <a:ln w="28440">
            <a:solidFill>
              <a:srgbClr val="f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181400" y="28404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 Matr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Garamond RegularSC"/>
              </a:rPr>
              <a:t> </a:t>
            </a:r>
            <a:r>
              <a:rPr b="0" lang="en-US" sz="1800" spc="-1" strike="noStrike">
                <a:solidFill>
                  <a:srgbClr val="ffbf00"/>
                </a:solidFill>
                <a:latin typeface="Arial"/>
              </a:rPr>
              <a:t>Building the Business C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61800" y="6502320"/>
            <a:ext cx="362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1994 – 2008 Solution Matrix. Alle Rechte vorbehalten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21"/>
          <p:cNvSpPr/>
          <p:nvPr/>
        </p:nvSpPr>
        <p:spPr>
          <a:xfrm>
            <a:off x="914400" y="646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22"/>
          <p:cNvSpPr/>
          <p:nvPr/>
        </p:nvSpPr>
        <p:spPr>
          <a:xfrm>
            <a:off x="914400" y="6419880"/>
            <a:ext cx="7315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914400" y="6324480"/>
            <a:ext cx="7543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85960" y="847440"/>
            <a:ext cx="724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7429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lutionmatrix.de/Kalkulieren-Sie-noch-oder-profitieren-Sie-schon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00120" y="2142720"/>
            <a:ext cx="6143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Hilfe dieser Vorlage können Sie Ihre Präsentation schnell und einfach vorbereiten und sie erfolgreich präsentieren. Wie Sie einen Business Case bzw. eine Kosten-Nutzen-Analyse erstellen, erfahren Sie in unserem neusten Buch „Kalkulieren Sie noch oder profitieren Sie schon?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weitere Informationen zum Buch klicken Sie bitte auf den folgenden Li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SolutionMatrix.de/Kalkulieren-Sie-noch-oder-profitieren-Sie-sch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57200" y="71280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Business Case Präsentationsvorl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Kalkulieren-Sie-noch-oder-profitieren-Sie-schon.png"/>
          <p:cNvPicPr/>
          <p:nvPr/>
        </p:nvPicPr>
        <p:blipFill>
          <a:blip r:embed="rId2"/>
          <a:stretch/>
        </p:blipFill>
        <p:spPr>
          <a:xfrm>
            <a:off x="0" y="2790720"/>
            <a:ext cx="114300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Kalkulieren-Sie-noch-oder-profitieren-Sie-schon.png"/>
          <p:cNvPicPr/>
          <p:nvPr/>
        </p:nvPicPr>
        <p:blipFill>
          <a:blip r:embed="rId3"/>
          <a:stretch/>
        </p:blipFill>
        <p:spPr>
          <a:xfrm>
            <a:off x="7643880" y="2786040"/>
            <a:ext cx="1143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56"/>
          <p:cNvSpPr/>
          <p:nvPr/>
        </p:nvSpPr>
        <p:spPr>
          <a:xfrm>
            <a:off x="1973160" y="2714760"/>
            <a:ext cx="1357560" cy="6429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Zeit für Fertigun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55"/>
          <p:cNvSpPr/>
          <p:nvPr/>
        </p:nvSpPr>
        <p:spPr>
          <a:xfrm>
            <a:off x="1960560" y="2384280"/>
            <a:ext cx="1357200" cy="6429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Zeit für Design-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npassun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66"/>
          <p:cNvSpPr/>
          <p:nvPr/>
        </p:nvSpPr>
        <p:spPr>
          <a:xfrm>
            <a:off x="7715160" y="5322960"/>
            <a:ext cx="1224000" cy="1004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371"/>
          <p:cNvSpPr/>
          <p:nvPr/>
        </p:nvSpPr>
        <p:spPr>
          <a:xfrm>
            <a:off x="7715160" y="5535720"/>
            <a:ext cx="122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72"/>
          <p:cNvSpPr/>
          <p:nvPr/>
        </p:nvSpPr>
        <p:spPr>
          <a:xfrm>
            <a:off x="7715160" y="5286240"/>
            <a:ext cx="1211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hlüsse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196"/>
          <p:cNvGrpSpPr/>
          <p:nvPr/>
        </p:nvGrpSpPr>
        <p:grpSpPr>
          <a:xfrm>
            <a:off x="7761240" y="5570640"/>
            <a:ext cx="1123560" cy="150840"/>
            <a:chOff x="7761240" y="5570640"/>
            <a:chExt cx="1123560" cy="150840"/>
          </a:xfrm>
        </p:grpSpPr>
        <p:sp>
          <p:nvSpPr>
            <p:cNvPr id="131" name="Rectangle 369"/>
            <p:cNvSpPr/>
            <p:nvPr/>
          </p:nvSpPr>
          <p:spPr>
            <a:xfrm>
              <a:off x="7761240" y="5570640"/>
              <a:ext cx="223200" cy="15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190"/>
            <p:cNvSpPr/>
            <p:nvPr/>
          </p:nvSpPr>
          <p:spPr>
            <a:xfrm>
              <a:off x="8002440" y="5570640"/>
              <a:ext cx="88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ntscheidung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195"/>
          <p:cNvGrpSpPr/>
          <p:nvPr/>
        </p:nvGrpSpPr>
        <p:grpSpPr>
          <a:xfrm>
            <a:off x="7763040" y="5773680"/>
            <a:ext cx="1055160" cy="155160"/>
            <a:chOff x="7763040" y="5773680"/>
            <a:chExt cx="1055160" cy="155160"/>
          </a:xfrm>
        </p:grpSpPr>
        <p:sp>
          <p:nvSpPr>
            <p:cNvPr id="134" name="AutoShape 374"/>
            <p:cNvSpPr/>
            <p:nvPr/>
          </p:nvSpPr>
          <p:spPr>
            <a:xfrm>
              <a:off x="7763040" y="5777640"/>
              <a:ext cx="222120" cy="151200"/>
            </a:xfrm>
            <a:prstGeom prst="hexagon">
              <a:avLst>
                <a:gd name="adj" fmla="val 41929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91"/>
            <p:cNvSpPr/>
            <p:nvPr/>
          </p:nvSpPr>
          <p:spPr>
            <a:xfrm>
              <a:off x="8008200" y="5773680"/>
              <a:ext cx="810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Zielwert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200"/>
          <p:cNvGrpSpPr/>
          <p:nvPr/>
        </p:nvGrpSpPr>
        <p:grpSpPr>
          <a:xfrm>
            <a:off x="7772400" y="5977080"/>
            <a:ext cx="1153800" cy="161640"/>
            <a:chOff x="7772400" y="5977080"/>
            <a:chExt cx="1153800" cy="161640"/>
          </a:xfrm>
        </p:grpSpPr>
        <p:sp>
          <p:nvSpPr>
            <p:cNvPr id="137" name="Oval 368"/>
            <p:cNvSpPr/>
            <p:nvPr/>
          </p:nvSpPr>
          <p:spPr>
            <a:xfrm>
              <a:off x="7772400" y="5987160"/>
              <a:ext cx="223560" cy="151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92"/>
            <p:cNvSpPr/>
            <p:nvPr/>
          </p:nvSpPr>
          <p:spPr>
            <a:xfrm>
              <a:off x="8002080" y="5977080"/>
              <a:ext cx="924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sicherheit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199"/>
          <p:cNvGrpSpPr/>
          <p:nvPr/>
        </p:nvGrpSpPr>
        <p:grpSpPr>
          <a:xfrm>
            <a:off x="7765200" y="6141960"/>
            <a:ext cx="1040400" cy="137520"/>
            <a:chOff x="7765200" y="6141960"/>
            <a:chExt cx="1040400" cy="137520"/>
          </a:xfrm>
        </p:grpSpPr>
        <p:sp>
          <p:nvSpPr>
            <p:cNvPr id="140" name="Line 370"/>
            <p:cNvSpPr/>
            <p:nvPr/>
          </p:nvSpPr>
          <p:spPr>
            <a:xfrm>
              <a:off x="7765200" y="6223680"/>
              <a:ext cx="26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93"/>
            <p:cNvSpPr/>
            <p:nvPr/>
          </p:nvSpPr>
          <p:spPr>
            <a:xfrm>
              <a:off x="8002800" y="6141960"/>
              <a:ext cx="80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influss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Group 55"/>
          <p:cNvGrpSpPr/>
          <p:nvPr/>
        </p:nvGrpSpPr>
        <p:grpSpPr>
          <a:xfrm>
            <a:off x="171360" y="2143080"/>
            <a:ext cx="1604880" cy="1789200"/>
            <a:chOff x="171360" y="2143080"/>
            <a:chExt cx="1604880" cy="1789200"/>
          </a:xfrm>
        </p:grpSpPr>
        <p:sp>
          <p:nvSpPr>
            <p:cNvPr id="143" name="Rectangle 47"/>
            <p:cNvSpPr/>
            <p:nvPr/>
          </p:nvSpPr>
          <p:spPr>
            <a:xfrm>
              <a:off x="171360" y="2143080"/>
              <a:ext cx="1604880" cy="1789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spcBef>
                  <a:spcPts val="814"/>
                </a:spcBef>
                <a:spcAft>
                  <a:spcPts val="601"/>
                </a:spcAft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trategien</a:t>
              </a:r>
              <a:endParaRPr b="1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ktueller Kurs &amp; Geschwindigkeit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plementierung DesignMax System gemäß Avanti Integrators Angebot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371"/>
            <p:cNvSpPr/>
            <p:nvPr/>
          </p:nvSpPr>
          <p:spPr>
            <a:xfrm>
              <a:off x="172800" y="2404800"/>
              <a:ext cx="1598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Rectangle 48"/>
          <p:cNvSpPr/>
          <p:nvPr/>
        </p:nvSpPr>
        <p:spPr>
          <a:xfrm>
            <a:off x="168120" y="4148280"/>
            <a:ext cx="1605240" cy="160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371"/>
          <p:cNvSpPr/>
          <p:nvPr/>
        </p:nvSpPr>
        <p:spPr>
          <a:xfrm>
            <a:off x="168120" y="4397400"/>
            <a:ext cx="16052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169920" y="4142880"/>
            <a:ext cx="16239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Entscheidungen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ystemumfan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rviceumfan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Straight Arrow Connector 26"/>
          <p:cNvCxnSpPr>
            <a:stCxn id="143" idx="2"/>
            <a:endCxn id="147" idx="0"/>
          </p:cNvCxnSpPr>
          <p:nvPr/>
        </p:nvCxnSpPr>
        <p:spPr>
          <a:xfrm>
            <a:off x="973080" y="3857760"/>
            <a:ext cx="864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AutoShape 6"/>
          <p:cNvSpPr/>
          <p:nvPr/>
        </p:nvSpPr>
        <p:spPr>
          <a:xfrm>
            <a:off x="7719840" y="3143160"/>
            <a:ext cx="1424160" cy="785880"/>
          </a:xfrm>
          <a:prstGeom prst="hexagon">
            <a:avLst>
              <a:gd name="adj" fmla="val 48484"/>
              <a:gd name="vf" fmla="val 115470"/>
            </a:avLst>
          </a:prstGeom>
          <a:solidFill>
            <a:srgbClr val="ffc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fitabilitä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Straight Arrow Connector 28"/>
          <p:cNvCxnSpPr>
            <a:stCxn id="151" idx="6"/>
            <a:endCxn id="152" idx="2"/>
          </p:cNvCxnSpPr>
          <p:nvPr/>
        </p:nvCxnSpPr>
        <p:spPr>
          <a:xfrm flipV="1">
            <a:off x="6572160" y="2677680"/>
            <a:ext cx="28656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Straight Arrow Connector 29"/>
          <p:cNvCxnSpPr>
            <a:stCxn id="154" idx="6"/>
            <a:endCxn id="152" idx="2"/>
          </p:cNvCxnSpPr>
          <p:nvPr/>
        </p:nvCxnSpPr>
        <p:spPr>
          <a:xfrm>
            <a:off x="6572160" y="2322360"/>
            <a:ext cx="286560" cy="35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Straight Arrow Connector 30"/>
          <p:cNvCxnSpPr>
            <a:stCxn id="156" idx="6"/>
            <a:endCxn id="157" idx="2"/>
          </p:cNvCxnSpPr>
          <p:nvPr/>
        </p:nvCxnSpPr>
        <p:spPr>
          <a:xfrm>
            <a:off x="4785840" y="4679640"/>
            <a:ext cx="50076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Straight Arrow Connector 31"/>
          <p:cNvCxnSpPr>
            <a:stCxn id="159" idx="6"/>
            <a:endCxn id="160" idx="2"/>
          </p:cNvCxnSpPr>
          <p:nvPr/>
        </p:nvCxnSpPr>
        <p:spPr>
          <a:xfrm>
            <a:off x="4786200" y="5393880"/>
            <a:ext cx="57240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Straight Arrow Connector 32"/>
          <p:cNvCxnSpPr>
            <a:stCxn id="162" idx="6"/>
            <a:endCxn id="159" idx="2"/>
          </p:cNvCxnSpPr>
          <p:nvPr/>
        </p:nvCxnSpPr>
        <p:spPr>
          <a:xfrm>
            <a:off x="3214440" y="4394160"/>
            <a:ext cx="50076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Straight Arrow Connector 33"/>
          <p:cNvCxnSpPr>
            <a:stCxn id="160" idx="6"/>
            <a:endCxn id="164" idx="3"/>
          </p:cNvCxnSpPr>
          <p:nvPr/>
        </p:nvCxnSpPr>
        <p:spPr>
          <a:xfrm flipV="1">
            <a:off x="6786720" y="4763520"/>
            <a:ext cx="218160" cy="11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34"/>
          <p:cNvCxnSpPr>
            <a:stCxn id="157" idx="7"/>
            <a:endCxn id="164" idx="2"/>
          </p:cNvCxnSpPr>
          <p:nvPr/>
        </p:nvCxnSpPr>
        <p:spPr>
          <a:xfrm flipV="1">
            <a:off x="6566400" y="4536360"/>
            <a:ext cx="29124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Straight Arrow Connector 35"/>
          <p:cNvCxnSpPr>
            <a:endCxn id="167" idx="2"/>
          </p:cNvCxnSpPr>
          <p:nvPr/>
        </p:nvCxnSpPr>
        <p:spPr>
          <a:xfrm>
            <a:off x="3313080" y="2320560"/>
            <a:ext cx="40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Straight Arrow Connector 36"/>
          <p:cNvCxnSpPr>
            <a:stCxn id="164" idx="0"/>
            <a:endCxn id="149" idx="2"/>
          </p:cNvCxnSpPr>
          <p:nvPr/>
        </p:nvCxnSpPr>
        <p:spPr>
          <a:xfrm flipV="1">
            <a:off x="7356960" y="3536280"/>
            <a:ext cx="362520" cy="67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Straight Arrow Connector 37"/>
          <p:cNvCxnSpPr>
            <a:stCxn id="152" idx="4"/>
            <a:endCxn id="149" idx="2"/>
          </p:cNvCxnSpPr>
          <p:nvPr/>
        </p:nvCxnSpPr>
        <p:spPr>
          <a:xfrm>
            <a:off x="7356960" y="2999880"/>
            <a:ext cx="36252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70" name="Group 135"/>
          <p:cNvGrpSpPr/>
          <p:nvPr/>
        </p:nvGrpSpPr>
        <p:grpSpPr>
          <a:xfrm>
            <a:off x="6858000" y="2357280"/>
            <a:ext cx="1000080" cy="2500560"/>
            <a:chOff x="6858000" y="2357280"/>
            <a:chExt cx="1000080" cy="2500560"/>
          </a:xfrm>
        </p:grpSpPr>
        <p:sp>
          <p:nvSpPr>
            <p:cNvPr id="164" name="Oval 39"/>
            <p:cNvSpPr/>
            <p:nvPr/>
          </p:nvSpPr>
          <p:spPr>
            <a:xfrm>
              <a:off x="6858000" y="4214880"/>
              <a:ext cx="1000080" cy="642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Kosten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40"/>
            <p:cNvSpPr/>
            <p:nvPr/>
          </p:nvSpPr>
          <p:spPr>
            <a:xfrm>
              <a:off x="6858000" y="2357280"/>
              <a:ext cx="1000080" cy="642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msatz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Oval 41"/>
          <p:cNvSpPr/>
          <p:nvPr/>
        </p:nvSpPr>
        <p:spPr>
          <a:xfrm>
            <a:off x="5357880" y="2000160"/>
            <a:ext cx="1214280" cy="6429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satz-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42"/>
          <p:cNvSpPr/>
          <p:nvPr/>
        </p:nvSpPr>
        <p:spPr>
          <a:xfrm>
            <a:off x="5357880" y="2714760"/>
            <a:ext cx="1214280" cy="6429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43"/>
          <p:cNvSpPr/>
          <p:nvPr/>
        </p:nvSpPr>
        <p:spPr>
          <a:xfrm>
            <a:off x="5357880" y="3429000"/>
            <a:ext cx="1214280" cy="6429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44"/>
          <p:cNvSpPr/>
          <p:nvPr/>
        </p:nvSpPr>
        <p:spPr>
          <a:xfrm>
            <a:off x="5357880" y="4143240"/>
            <a:ext cx="1214280" cy="6429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arkt-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wachstum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3714840" y="2000160"/>
            <a:ext cx="1071360" cy="6429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roduk-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ivitä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46"/>
          <p:cNvSpPr/>
          <p:nvPr/>
        </p:nvSpPr>
        <p:spPr>
          <a:xfrm>
            <a:off x="2071800" y="3429000"/>
            <a:ext cx="1143000" cy="6429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div. Designan-passun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148"/>
          <p:cNvGrpSpPr/>
          <p:nvPr/>
        </p:nvGrpSpPr>
        <p:grpSpPr>
          <a:xfrm>
            <a:off x="3714840" y="3643200"/>
            <a:ext cx="1071360" cy="2786040"/>
            <a:chOff x="3714840" y="3643200"/>
            <a:chExt cx="1071360" cy="2786040"/>
          </a:xfrm>
        </p:grpSpPr>
        <p:sp>
          <p:nvSpPr>
            <p:cNvPr id="175" name="Oval 48"/>
            <p:cNvSpPr/>
            <p:nvPr/>
          </p:nvSpPr>
          <p:spPr>
            <a:xfrm>
              <a:off x="3714840" y="3643200"/>
              <a:ext cx="1071360" cy="642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Zeitauf-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wand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49"/>
            <p:cNvSpPr/>
            <p:nvPr/>
          </p:nvSpPr>
          <p:spPr>
            <a:xfrm>
              <a:off x="3714840" y="4357440"/>
              <a:ext cx="1071360" cy="642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50"/>
            <p:cNvSpPr/>
            <p:nvPr/>
          </p:nvSpPr>
          <p:spPr>
            <a:xfrm>
              <a:off x="3714840" y="5072040"/>
              <a:ext cx="1071360" cy="642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Personal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51"/>
            <p:cNvSpPr/>
            <p:nvPr/>
          </p:nvSpPr>
          <p:spPr>
            <a:xfrm>
              <a:off x="3714840" y="5786280"/>
              <a:ext cx="1071360" cy="642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Qualität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7" name="Straight Arrow Connector 52"/>
          <p:cNvCxnSpPr>
            <a:stCxn id="167" idx="6"/>
            <a:endCxn id="154" idx="2"/>
          </p:cNvCxnSpPr>
          <p:nvPr/>
        </p:nvCxnSpPr>
        <p:spPr>
          <a:xfrm>
            <a:off x="4786200" y="2320920"/>
            <a:ext cx="572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Oval 54"/>
          <p:cNvSpPr/>
          <p:nvPr/>
        </p:nvSpPr>
        <p:spPr>
          <a:xfrm>
            <a:off x="1955880" y="2000160"/>
            <a:ext cx="1357200" cy="6429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Zeit für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twicklun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75"/>
          <p:cNvGrpSpPr/>
          <p:nvPr/>
        </p:nvGrpSpPr>
        <p:grpSpPr>
          <a:xfrm>
            <a:off x="5286240" y="5143680"/>
            <a:ext cx="1500480" cy="1071360"/>
            <a:chOff x="5286240" y="5143680"/>
            <a:chExt cx="1500480" cy="1071360"/>
          </a:xfrm>
        </p:grpSpPr>
        <p:sp>
          <p:nvSpPr>
            <p:cNvPr id="157" name="Oval 58"/>
            <p:cNvSpPr/>
            <p:nvPr/>
          </p:nvSpPr>
          <p:spPr>
            <a:xfrm>
              <a:off x="5286240" y="5143680"/>
              <a:ext cx="1500480" cy="642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Entwicklungs-kosten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59"/>
            <p:cNvSpPr/>
            <p:nvPr/>
          </p:nvSpPr>
          <p:spPr>
            <a:xfrm>
              <a:off x="5357520" y="5572080"/>
              <a:ext cx="1429200" cy="642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Fertigungs- kosten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80" name="Straight Arrow Connector 60"/>
          <p:cNvCxnSpPr>
            <a:stCxn id="171" idx="6"/>
            <a:endCxn id="152" idx="2"/>
          </p:cNvCxnSpPr>
          <p:nvPr/>
        </p:nvCxnSpPr>
        <p:spPr>
          <a:xfrm flipV="1">
            <a:off x="6572160" y="2677320"/>
            <a:ext cx="28656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Straight Arrow Connector 61"/>
          <p:cNvCxnSpPr>
            <a:stCxn id="172" idx="6"/>
            <a:endCxn id="152" idx="3"/>
          </p:cNvCxnSpPr>
          <p:nvPr/>
        </p:nvCxnSpPr>
        <p:spPr>
          <a:xfrm flipV="1">
            <a:off x="6572160" y="2905920"/>
            <a:ext cx="432720" cy="155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Straight Arrow Connector 62"/>
          <p:cNvCxnSpPr>
            <a:stCxn id="176" idx="6"/>
            <a:endCxn id="160" idx="2"/>
          </p:cNvCxnSpPr>
          <p:nvPr/>
        </p:nvCxnSpPr>
        <p:spPr>
          <a:xfrm flipV="1">
            <a:off x="4786200" y="5893920"/>
            <a:ext cx="5724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3" name="Straight Arrow Connector 63"/>
          <p:cNvCxnSpPr>
            <a:stCxn id="173" idx="6"/>
            <a:endCxn id="175" idx="2"/>
          </p:cNvCxnSpPr>
          <p:nvPr/>
        </p:nvCxnSpPr>
        <p:spPr>
          <a:xfrm>
            <a:off x="3214440" y="3750840"/>
            <a:ext cx="5007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Straight Arrow Connector 64"/>
          <p:cNvCxnSpPr>
            <a:stCxn id="175" idx="6"/>
            <a:endCxn id="157" idx="2"/>
          </p:cNvCxnSpPr>
          <p:nvPr/>
        </p:nvCxnSpPr>
        <p:spPr>
          <a:xfrm>
            <a:off x="4785840" y="3965400"/>
            <a:ext cx="500760" cy="150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85" name="Group 135"/>
          <p:cNvGrpSpPr/>
          <p:nvPr/>
        </p:nvGrpSpPr>
        <p:grpSpPr>
          <a:xfrm>
            <a:off x="2071800" y="4143240"/>
            <a:ext cx="1143000" cy="2214720"/>
            <a:chOff x="2071800" y="4143240"/>
            <a:chExt cx="1143000" cy="2214720"/>
          </a:xfrm>
        </p:grpSpPr>
        <p:sp>
          <p:nvSpPr>
            <p:cNvPr id="162" name="Oval 66"/>
            <p:cNvSpPr/>
            <p:nvPr/>
          </p:nvSpPr>
          <p:spPr>
            <a:xfrm>
              <a:off x="2097000" y="4143240"/>
              <a:ext cx="1117800" cy="500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67"/>
            <p:cNvSpPr/>
            <p:nvPr/>
          </p:nvSpPr>
          <p:spPr>
            <a:xfrm>
              <a:off x="2097000" y="4714560"/>
              <a:ext cx="1117800" cy="500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ehalt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68"/>
            <p:cNvSpPr/>
            <p:nvPr/>
          </p:nvSpPr>
          <p:spPr>
            <a:xfrm>
              <a:off x="2071800" y="5857920"/>
              <a:ext cx="1143000" cy="500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ehalts-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nstieg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69"/>
            <p:cNvSpPr/>
            <p:nvPr/>
          </p:nvSpPr>
          <p:spPr>
            <a:xfrm>
              <a:off x="2097000" y="5286240"/>
              <a:ext cx="1117800" cy="500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# Mitar-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beiter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89" name="Straight Arrow Connector 70"/>
          <p:cNvCxnSpPr>
            <a:stCxn id="186" idx="6"/>
            <a:endCxn id="159" idx="2"/>
          </p:cNvCxnSpPr>
          <p:nvPr/>
        </p:nvCxnSpPr>
        <p:spPr>
          <a:xfrm>
            <a:off x="3214440" y="4965840"/>
            <a:ext cx="5007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71"/>
          <p:cNvCxnSpPr>
            <a:stCxn id="188" idx="6"/>
            <a:endCxn id="159" idx="2"/>
          </p:cNvCxnSpPr>
          <p:nvPr/>
        </p:nvCxnSpPr>
        <p:spPr>
          <a:xfrm flipV="1">
            <a:off x="3214440" y="5393520"/>
            <a:ext cx="5007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Straight Arrow Connector 72"/>
          <p:cNvCxnSpPr>
            <a:stCxn id="187" idx="6"/>
            <a:endCxn id="159" idx="2"/>
          </p:cNvCxnSpPr>
          <p:nvPr/>
        </p:nvCxnSpPr>
        <p:spPr>
          <a:xfrm flipV="1">
            <a:off x="3214440" y="5393520"/>
            <a:ext cx="50076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Straight Arrow Connector 73"/>
          <p:cNvCxnSpPr>
            <a:stCxn id="173" idx="6"/>
            <a:endCxn id="156" idx="2"/>
          </p:cNvCxnSpPr>
          <p:nvPr/>
        </p:nvCxnSpPr>
        <p:spPr>
          <a:xfrm>
            <a:off x="3214440" y="3751200"/>
            <a:ext cx="50076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influssMatr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13"/>
          <p:cNvGrpSpPr/>
          <p:nvPr/>
        </p:nvGrpSpPr>
        <p:grpSpPr>
          <a:xfrm>
            <a:off x="379440" y="1125360"/>
            <a:ext cx="1676520" cy="457200"/>
            <a:chOff x="379440" y="1125360"/>
            <a:chExt cx="1676520" cy="457200"/>
          </a:xfrm>
        </p:grpSpPr>
        <p:sp>
          <p:nvSpPr>
            <p:cNvPr id="195" name="AutoShape 11"/>
            <p:cNvSpPr/>
            <p:nvPr/>
          </p:nvSpPr>
          <p:spPr>
            <a:xfrm>
              <a:off x="379440" y="11253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51"/>
            <p:cNvSpPr/>
            <p:nvPr/>
          </p:nvSpPr>
          <p:spPr>
            <a:xfrm>
              <a:off x="395280" y="114408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655560" y="122040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B. Methoden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688760" y="2260080"/>
            <a:ext cx="70261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lementierung beginnt Mitte Janua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kurve ist bis Ende Juni 2008 abgeschlo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lementierung und Übergang zum neuen System hat keinen negativen Einfluss auf die Entwicklungsz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öhne und Gehälter steigen pro Jahr im Schnitt nicht mehr als 4% von 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ktwachstum beträgt weiterhin 5%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Hauptannah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2"/>
          <p:cNvGrpSpPr/>
          <p:nvPr/>
        </p:nvGrpSpPr>
        <p:grpSpPr>
          <a:xfrm>
            <a:off x="379440" y="1125360"/>
            <a:ext cx="1676520" cy="457200"/>
            <a:chOff x="379440" y="1125360"/>
            <a:chExt cx="1676520" cy="457200"/>
          </a:xfrm>
        </p:grpSpPr>
        <p:sp>
          <p:nvSpPr>
            <p:cNvPr id="201" name="AutoShape 11"/>
            <p:cNvSpPr/>
            <p:nvPr/>
          </p:nvSpPr>
          <p:spPr>
            <a:xfrm>
              <a:off x="379440" y="11253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51"/>
            <p:cNvSpPr/>
            <p:nvPr/>
          </p:nvSpPr>
          <p:spPr>
            <a:xfrm>
              <a:off x="395280" y="114408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12"/>
            <p:cNvSpPr/>
            <p:nvPr/>
          </p:nvSpPr>
          <p:spPr>
            <a:xfrm>
              <a:off x="655560" y="122040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B. Methoden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Kostenentscheidungsmod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235"/>
          <p:cNvGrpSpPr/>
          <p:nvPr/>
        </p:nvGrpSpPr>
        <p:grpSpPr>
          <a:xfrm>
            <a:off x="379440" y="1125360"/>
            <a:ext cx="1676520" cy="457200"/>
            <a:chOff x="379440" y="1125360"/>
            <a:chExt cx="1676520" cy="457200"/>
          </a:xfrm>
        </p:grpSpPr>
        <p:sp>
          <p:nvSpPr>
            <p:cNvPr id="206" name="AutoShape 11"/>
            <p:cNvSpPr/>
            <p:nvPr/>
          </p:nvSpPr>
          <p:spPr>
            <a:xfrm>
              <a:off x="379440" y="11253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AutoShape 51"/>
            <p:cNvSpPr/>
            <p:nvPr/>
          </p:nvSpPr>
          <p:spPr>
            <a:xfrm>
              <a:off x="395280" y="114408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655560" y="122040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B. Methoden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9" name="Content Placeholder 5" descr=""/>
          <p:cNvPicPr/>
          <p:nvPr/>
        </p:nvPicPr>
        <p:blipFill>
          <a:blip r:embed="rId1"/>
          <a:stretch/>
        </p:blipFill>
        <p:spPr>
          <a:xfrm>
            <a:off x="1212840" y="2000160"/>
            <a:ext cx="779148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000" y="2260080"/>
            <a:ext cx="6933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e Produktivität und kürzere Entwicklungszeiten werden durch folgende Kosteneinsparungen erreich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zeptentwicklungsphase (15%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ailentwicklungsphase (30%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Änderungsmanagement und Freigabe (40%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rtigungsvorbereitung (35%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hmaterialien und Lagerbestand (30%)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Kosteneinsparu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379440" y="1125360"/>
            <a:ext cx="1676520" cy="457200"/>
            <a:chOff x="379440" y="1125360"/>
            <a:chExt cx="1676520" cy="457200"/>
          </a:xfrm>
        </p:grpSpPr>
        <p:sp>
          <p:nvSpPr>
            <p:cNvPr id="213" name="AutoShape 11"/>
            <p:cNvSpPr/>
            <p:nvPr/>
          </p:nvSpPr>
          <p:spPr>
            <a:xfrm>
              <a:off x="379440" y="11253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AutoShape 51"/>
            <p:cNvSpPr/>
            <p:nvPr/>
          </p:nvSpPr>
          <p:spPr>
            <a:xfrm>
              <a:off x="395280" y="114408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655560" y="122040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B. Methoden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692360" y="1982880"/>
            <a:ext cx="702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wert: Kostenr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inge Kosten für die Designkollaboratio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ffizienteres Änderungs- und Freigabemanagement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höhte Mitarbeiterproduktivität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wert: Erfüllung der steigenden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hr individuelle Designs möglich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nellere Bearbeitung von Änderunge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Kundenbetreuung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wert: Verkürzung der Entwicklungs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iger und frühere Änderungen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tan ablaufende Designprozess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ühzeitigere Fertigungsvorbereitung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utzenpotenti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379440" y="1125360"/>
            <a:ext cx="1676520" cy="457200"/>
            <a:chOff x="379440" y="1125360"/>
            <a:chExt cx="1676520" cy="457200"/>
          </a:xfrm>
        </p:grpSpPr>
        <p:sp>
          <p:nvSpPr>
            <p:cNvPr id="219" name="AutoShape 11"/>
            <p:cNvSpPr/>
            <p:nvPr/>
          </p:nvSpPr>
          <p:spPr>
            <a:xfrm>
              <a:off x="379440" y="11253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AutoShape 51"/>
            <p:cNvSpPr/>
            <p:nvPr/>
          </p:nvSpPr>
          <p:spPr>
            <a:xfrm>
              <a:off x="395280" y="114408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2"/>
            <p:cNvSpPr/>
            <p:nvPr/>
          </p:nvSpPr>
          <p:spPr>
            <a:xfrm>
              <a:off x="655560" y="122040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B. Methoden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Finanzielle Prognos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2143080" y="2452680"/>
            <a:ext cx="378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Zusammenfassung der finanziellen Prognosen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Group 17"/>
          <p:cNvGrpSpPr/>
          <p:nvPr/>
        </p:nvGrpSpPr>
        <p:grpSpPr>
          <a:xfrm>
            <a:off x="379440" y="1127160"/>
            <a:ext cx="1676520" cy="457200"/>
            <a:chOff x="379440" y="1127160"/>
            <a:chExt cx="1676520" cy="457200"/>
          </a:xfrm>
        </p:grpSpPr>
        <p:sp>
          <p:nvSpPr>
            <p:cNvPr id="225" name="AutoShape 17"/>
            <p:cNvSpPr/>
            <p:nvPr/>
          </p:nvSpPr>
          <p:spPr>
            <a:xfrm>
              <a:off x="379440" y="11271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AutoShape 50"/>
            <p:cNvSpPr/>
            <p:nvPr/>
          </p:nvSpPr>
          <p:spPr>
            <a:xfrm>
              <a:off x="395280" y="114300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8"/>
            <p:cNvSpPr/>
            <p:nvPr/>
          </p:nvSpPr>
          <p:spPr>
            <a:xfrm>
              <a:off x="662040" y="121752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C. Prognosen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2206800" y="2771640"/>
            <a:ext cx="61513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Cash Flow Progn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Chart 12" descr=""/>
          <p:cNvPicPr/>
          <p:nvPr/>
        </p:nvPicPr>
        <p:blipFill>
          <a:blip r:embed="rId1"/>
          <a:stretch/>
        </p:blipFill>
        <p:spPr>
          <a:xfrm>
            <a:off x="2414520" y="2414520"/>
            <a:ext cx="5686560" cy="35290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4"/>
          <p:cNvSpPr/>
          <p:nvPr/>
        </p:nvSpPr>
        <p:spPr>
          <a:xfrm>
            <a:off x="2413080" y="1998720"/>
            <a:ext cx="378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mpfohlene DesignMax Implementierung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ährung: €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15"/>
          <p:cNvGrpSpPr/>
          <p:nvPr/>
        </p:nvGrpSpPr>
        <p:grpSpPr>
          <a:xfrm>
            <a:off x="379440" y="1127160"/>
            <a:ext cx="1676520" cy="457200"/>
            <a:chOff x="379440" y="1127160"/>
            <a:chExt cx="1676520" cy="457200"/>
          </a:xfrm>
        </p:grpSpPr>
        <p:sp>
          <p:nvSpPr>
            <p:cNvPr id="233" name="AutoShape 17"/>
            <p:cNvSpPr/>
            <p:nvPr/>
          </p:nvSpPr>
          <p:spPr>
            <a:xfrm>
              <a:off x="379440" y="11271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utoShape 50"/>
            <p:cNvSpPr/>
            <p:nvPr/>
          </p:nvSpPr>
          <p:spPr>
            <a:xfrm>
              <a:off x="395280" y="114300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Text Box 18"/>
            <p:cNvSpPr/>
            <p:nvPr/>
          </p:nvSpPr>
          <p:spPr>
            <a:xfrm>
              <a:off x="662040" y="121752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C. Prognosen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9"/>
          <p:cNvSpPr/>
          <p:nvPr/>
        </p:nvSpPr>
        <p:spPr>
          <a:xfrm>
            <a:off x="1857240" y="17524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 Annahmen haben den größten Einfluss auf das Ergebni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4929120" y="6330960"/>
            <a:ext cx="383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onte Carlo Simulation; Resultate der Sensitivitätsanalyse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ensitivitätsanaly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19"/>
          <p:cNvGrpSpPr/>
          <p:nvPr/>
        </p:nvGrpSpPr>
        <p:grpSpPr>
          <a:xfrm>
            <a:off x="387360" y="1127160"/>
            <a:ext cx="1676520" cy="457200"/>
            <a:chOff x="387360" y="1127160"/>
            <a:chExt cx="1676520" cy="457200"/>
          </a:xfrm>
        </p:grpSpPr>
        <p:sp>
          <p:nvSpPr>
            <p:cNvPr id="240" name="AutoShape 20"/>
            <p:cNvSpPr/>
            <p:nvPr/>
          </p:nvSpPr>
          <p:spPr>
            <a:xfrm>
              <a:off x="387360" y="11271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AutoShape 49"/>
            <p:cNvSpPr/>
            <p:nvPr/>
          </p:nvSpPr>
          <p:spPr>
            <a:xfrm>
              <a:off x="403200" y="114912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>
              <a:off x="663480" y="1141200"/>
              <a:ext cx="1209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D. Risiko &amp; Sensitivität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3" name="Picture 11" descr="C:\Dokumente und Einstellungen\zerg\Desktop\Unbenannt-4.jpg"/>
          <p:cNvPicPr/>
          <p:nvPr/>
        </p:nvPicPr>
        <p:blipFill>
          <a:blip r:embed="rId1"/>
          <a:stretch/>
        </p:blipFill>
        <p:spPr>
          <a:xfrm>
            <a:off x="1938240" y="2428920"/>
            <a:ext cx="6848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687680" y="1982880"/>
            <a:ext cx="717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: Reduzierung der Entwicklungskosten um 12,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llten die Einsparungen der Entwicklungskosten nur die Hälfte der erwarteten Höhe betragen, so sinkt der Netto Cash Flow von € 3,87 Millionen auf € 2,87 Millione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llten die Einsparungen höher ausfallen, z. B. 25%, so steigt das Ergebnis auf € 6,00 Millione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: Verbesserung der Produktivität um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llte die Produktivität nur um 5% steigen, reduziert sich das Ergebnis um 15% auf € 3,3 Millione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llte sich die Produktivität um 20% verbessern, so steigt das Ergebnis auf € 6,0 Millione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ensitivität der Ergebnis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12"/>
          <p:cNvGrpSpPr/>
          <p:nvPr/>
        </p:nvGrpSpPr>
        <p:grpSpPr>
          <a:xfrm>
            <a:off x="387360" y="1127160"/>
            <a:ext cx="1676520" cy="457200"/>
            <a:chOff x="387360" y="1127160"/>
            <a:chExt cx="1676520" cy="457200"/>
          </a:xfrm>
        </p:grpSpPr>
        <p:sp>
          <p:nvSpPr>
            <p:cNvPr id="247" name="AutoShape 20"/>
            <p:cNvSpPr/>
            <p:nvPr/>
          </p:nvSpPr>
          <p:spPr>
            <a:xfrm>
              <a:off x="387360" y="11271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49"/>
            <p:cNvSpPr/>
            <p:nvPr/>
          </p:nvSpPr>
          <p:spPr>
            <a:xfrm>
              <a:off x="403200" y="114912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21"/>
            <p:cNvSpPr/>
            <p:nvPr/>
          </p:nvSpPr>
          <p:spPr>
            <a:xfrm>
              <a:off x="663480" y="1141200"/>
              <a:ext cx="1209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D. Risiko &amp; Sensitivität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571840" y="19033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wahrscheinlich sind andere Ergebnisse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4352760" y="5094360"/>
            <a:ext cx="350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onte Carlo Simulation; Resultate der Risikoanalyse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2543040" y="5278320"/>
            <a:ext cx="617220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Wahrscheinlichkeit, dass d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eak Even erreicht wird, liegt bei 99,9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sh Flow bei € 2,500,00 oder mehr liegt ist 83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sh Flow bei € 3,872,473 oder mehr liegt ist 50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sh Flow bei € 5,000,000 oder mehr liegt ist 28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Risikoanaly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16"/>
          <p:cNvGrpSpPr/>
          <p:nvPr/>
        </p:nvGrpSpPr>
        <p:grpSpPr>
          <a:xfrm>
            <a:off x="387360" y="1127160"/>
            <a:ext cx="1676520" cy="457200"/>
            <a:chOff x="387360" y="1127160"/>
            <a:chExt cx="1676520" cy="457200"/>
          </a:xfrm>
        </p:grpSpPr>
        <p:sp>
          <p:nvSpPr>
            <p:cNvPr id="255" name="AutoShape 20"/>
            <p:cNvSpPr/>
            <p:nvPr/>
          </p:nvSpPr>
          <p:spPr>
            <a:xfrm>
              <a:off x="387360" y="11271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49"/>
            <p:cNvSpPr/>
            <p:nvPr/>
          </p:nvSpPr>
          <p:spPr>
            <a:xfrm>
              <a:off x="403200" y="114912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21"/>
            <p:cNvSpPr/>
            <p:nvPr/>
          </p:nvSpPr>
          <p:spPr>
            <a:xfrm>
              <a:off x="663480" y="1141200"/>
              <a:ext cx="1209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D. Risiko &amp; Sensitivität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8" name="Picture 11" descr="C:\Dokumente und Einstellungen\zerg\Desktop\Unbenannt-3.jpg"/>
          <p:cNvPicPr/>
          <p:nvPr/>
        </p:nvPicPr>
        <p:blipFill>
          <a:blip r:embed="rId1"/>
          <a:stretch/>
        </p:blipFill>
        <p:spPr>
          <a:xfrm>
            <a:off x="2558880" y="2270160"/>
            <a:ext cx="5253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2729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Business Case Analyse</a:t>
            </a:r>
            <a:br>
              <a:rPr sz="24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plementierung DesignMax System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00200" y="3033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sten-Nutzen-Analyse für 2008 -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648320" y="4122720"/>
            <a:ext cx="4114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kreis Produktentwicklu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erofirma Investitionskomite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Dezember 2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689120" y="2760480"/>
            <a:ext cx="6934320" cy="25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erend auf der hier zusammengefassten Business Case Analyse empfehlen wir, dass das Aerofirma Investitionskomitee zustimmen und in das DesignMax Projekt investieren soll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Fazit &amp; Empfehlu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7"/>
          <p:cNvGrpSpPr/>
          <p:nvPr/>
        </p:nvGrpSpPr>
        <p:grpSpPr>
          <a:xfrm>
            <a:off x="311040" y="1135080"/>
            <a:ext cx="1816200" cy="694440"/>
            <a:chOff x="311040" y="1135080"/>
            <a:chExt cx="1816200" cy="694440"/>
          </a:xfrm>
        </p:grpSpPr>
        <p:sp>
          <p:nvSpPr>
            <p:cNvPr id="262" name="AutoShape 23"/>
            <p:cNvSpPr/>
            <p:nvPr/>
          </p:nvSpPr>
          <p:spPr>
            <a:xfrm>
              <a:off x="390240" y="113508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AutoShape 48"/>
            <p:cNvSpPr/>
            <p:nvPr/>
          </p:nvSpPr>
          <p:spPr>
            <a:xfrm>
              <a:off x="409320" y="1153800"/>
              <a:ext cx="163836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311040" y="1145880"/>
              <a:ext cx="181620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41440" indent="-541440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E. Fazit &amp;    Empfehlungen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541440" indent="-541440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692360" y="1984320"/>
            <a:ext cx="723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 die Projektrisiken zu minimieren und das Investitionsergebnis zu maximieren, schlagen wir vor, d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erofirma sobald wie möglich mit Avanti Integrators einen Plan für die Systemintegration ausarbeit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gestellt wird, das sowohl Mitarbeiter der IT Abteilung als auch Hardware für die Installation und Integration von DesignMax zur Verfügung steh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Übergangsleiter nominiert wird, der dafür Verantwortung trägt, dass bestehende Kundenprojekte durch die Migration nicht negativ beeinflusst werd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s Quartal ein Bericht über den Grad der Zielwerterreichung und der finanziellen Prognosen erstellt w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Fazit &amp; Empfehlu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1"/>
          <p:cNvGrpSpPr/>
          <p:nvPr/>
        </p:nvGrpSpPr>
        <p:grpSpPr>
          <a:xfrm>
            <a:off x="311040" y="1135080"/>
            <a:ext cx="1816200" cy="694440"/>
            <a:chOff x="311040" y="1135080"/>
            <a:chExt cx="1816200" cy="694440"/>
          </a:xfrm>
        </p:grpSpPr>
        <p:sp>
          <p:nvSpPr>
            <p:cNvPr id="268" name="AutoShape 23"/>
            <p:cNvSpPr/>
            <p:nvPr/>
          </p:nvSpPr>
          <p:spPr>
            <a:xfrm>
              <a:off x="390240" y="113508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AutoShape 48"/>
            <p:cNvSpPr/>
            <p:nvPr/>
          </p:nvSpPr>
          <p:spPr>
            <a:xfrm>
              <a:off x="409320" y="1153800"/>
              <a:ext cx="163836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24"/>
            <p:cNvSpPr/>
            <p:nvPr/>
          </p:nvSpPr>
          <p:spPr>
            <a:xfrm>
              <a:off x="311040" y="1145880"/>
              <a:ext cx="181620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41440" indent="-541440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E. Fazit &amp;    Empfehlungen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541440" indent="-541440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500120" y="2142720"/>
            <a:ext cx="6143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Hilfe dieser Vorlage können Sie Ihre Präsentation schnell und einfach vorbereiten und sie erfolgreich präsentieren. Wie Sie einen Business Case bzw. eine Kosten-Nutzen-Analyse erstellen, erfahren Sie in unserem neusten Buch „Kalkulieren Sie noch oder profitieren Sie schon?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weitere Informationen zum Buch klicken Sie bitte auf den folgenden Li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ww.SolutionMatrix.de/Kalkulieren-Sie-noch-oder-profitieren-Sie-sch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Kalkulieren-Sie-noch-oder-profitieren-Sie-schon.png"/>
          <p:cNvPicPr/>
          <p:nvPr/>
        </p:nvPicPr>
        <p:blipFill>
          <a:blip r:embed="rId1"/>
          <a:stretch/>
        </p:blipFill>
        <p:spPr>
          <a:xfrm>
            <a:off x="0" y="2790720"/>
            <a:ext cx="1143000" cy="1276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Kalkulieren-Sie-noch-oder-profitieren-Sie-schon.png"/>
          <p:cNvPicPr/>
          <p:nvPr/>
        </p:nvPicPr>
        <p:blipFill>
          <a:blip r:embed="rId2"/>
          <a:stretch/>
        </p:blipFill>
        <p:spPr>
          <a:xfrm>
            <a:off x="7643880" y="2786040"/>
            <a:ext cx="1143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990720" y="18907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annes Rit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, Büro Frankfu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Matrix Eur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annes_Ritter@SolutionMatrix.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: +49-69-43 05 74 2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SolutionMatrix.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128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bau des Business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73240" y="1569960"/>
            <a:ext cx="569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habe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04240" indent="-365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wert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04240" indent="-36540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fang und Abgrenzung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siness Case Meth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lysierte Szenarie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04240" indent="-365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lussMatrix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04240" indent="-365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uptannahme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04240" indent="-365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stenentscheidungsmodel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04240" indent="-36540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tzenpotential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sten-Nutzen Pro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siko- und Sensitivitäts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zit und Empfehl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7"/>
          <p:cNvGrpSpPr/>
          <p:nvPr/>
        </p:nvGrpSpPr>
        <p:grpSpPr>
          <a:xfrm>
            <a:off x="612720" y="1865160"/>
            <a:ext cx="1816200" cy="3936600"/>
            <a:chOff x="612720" y="1865160"/>
            <a:chExt cx="1816200" cy="3936600"/>
          </a:xfrm>
        </p:grpSpPr>
        <p:sp>
          <p:nvSpPr>
            <p:cNvPr id="65" name="Line 38"/>
            <p:cNvSpPr/>
            <p:nvPr/>
          </p:nvSpPr>
          <p:spPr>
            <a:xfrm>
              <a:off x="1600200" y="2313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40"/>
            <p:cNvSpPr/>
            <p:nvPr/>
          </p:nvSpPr>
          <p:spPr>
            <a:xfrm>
              <a:off x="1600200" y="3144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41"/>
            <p:cNvSpPr/>
            <p:nvPr/>
          </p:nvSpPr>
          <p:spPr>
            <a:xfrm>
              <a:off x="1600200" y="3951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42"/>
            <p:cNvSpPr/>
            <p:nvPr/>
          </p:nvSpPr>
          <p:spPr>
            <a:xfrm>
              <a:off x="1600200" y="475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Group 52"/>
            <p:cNvGrpSpPr/>
            <p:nvPr/>
          </p:nvGrpSpPr>
          <p:grpSpPr>
            <a:xfrm>
              <a:off x="695160" y="1865160"/>
              <a:ext cx="1676520" cy="457200"/>
              <a:chOff x="695160" y="1865160"/>
              <a:chExt cx="1676520" cy="457200"/>
            </a:xfrm>
          </p:grpSpPr>
          <p:sp>
            <p:nvSpPr>
              <p:cNvPr id="70" name="AutoShape 14"/>
              <p:cNvSpPr/>
              <p:nvPr/>
            </p:nvSpPr>
            <p:spPr>
              <a:xfrm>
                <a:off x="695160" y="1865160"/>
                <a:ext cx="16765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59595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2321969" blurRad="0" rotWithShape="0">
                  <a:srgbClr val="96969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AutoShape 44"/>
              <p:cNvSpPr/>
              <p:nvPr/>
            </p:nvSpPr>
            <p:spPr>
              <a:xfrm>
                <a:off x="717480" y="1887480"/>
                <a:ext cx="1638360" cy="419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7d7d7d"/>
                  </a:gs>
                </a:gsLst>
                <a:lin ang="2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Text Box 15"/>
              <p:cNvSpPr/>
              <p:nvPr/>
            </p:nvSpPr>
            <p:spPr>
              <a:xfrm>
                <a:off x="971640" y="1959120"/>
                <a:ext cx="1247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ffffff"/>
                    </a:solidFill>
                    <a:latin typeface="Arial"/>
                  </a:rPr>
                  <a:t>A. Einleitung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56"/>
            <p:cNvGrpSpPr/>
            <p:nvPr/>
          </p:nvGrpSpPr>
          <p:grpSpPr>
            <a:xfrm>
              <a:off x="612720" y="5106960"/>
              <a:ext cx="1816200" cy="694800"/>
              <a:chOff x="612720" y="5106960"/>
              <a:chExt cx="1816200" cy="694800"/>
            </a:xfrm>
          </p:grpSpPr>
          <p:sp>
            <p:nvSpPr>
              <p:cNvPr id="74" name="AutoShape 23"/>
              <p:cNvSpPr/>
              <p:nvPr/>
            </p:nvSpPr>
            <p:spPr>
              <a:xfrm>
                <a:off x="692280" y="5106960"/>
                <a:ext cx="167616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59595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AutoShape 48"/>
              <p:cNvSpPr/>
              <p:nvPr/>
            </p:nvSpPr>
            <p:spPr>
              <a:xfrm>
                <a:off x="711360" y="5126040"/>
                <a:ext cx="1638000" cy="419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7d7d7d"/>
                  </a:gs>
                </a:gsLst>
                <a:lin ang="2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Text Box 24"/>
              <p:cNvSpPr/>
              <p:nvPr/>
            </p:nvSpPr>
            <p:spPr>
              <a:xfrm>
                <a:off x="612720" y="5118120"/>
                <a:ext cx="1816200" cy="68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41440" indent="-541440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ffffff"/>
                    </a:solidFill>
                    <a:latin typeface="Arial"/>
                  </a:rPr>
                  <a:t>          </a:t>
                </a:r>
                <a:r>
                  <a:rPr b="1" lang="de-DE" sz="1100" spc="-1" strike="noStrike">
                    <a:solidFill>
                      <a:srgbClr val="ffffff"/>
                    </a:solidFill>
                    <a:latin typeface="Arial"/>
                  </a:rPr>
                  <a:t>E. Fazit &amp;    Empfehlungen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541440" indent="-541440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ffffff"/>
                    </a:solidFill>
                    <a:latin typeface="Arial"/>
                  </a:rPr>
                  <a:t>          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55"/>
            <p:cNvGrpSpPr/>
            <p:nvPr/>
          </p:nvGrpSpPr>
          <p:grpSpPr>
            <a:xfrm>
              <a:off x="695160" y="4294080"/>
              <a:ext cx="1676520" cy="457200"/>
              <a:chOff x="695160" y="4294080"/>
              <a:chExt cx="1676520" cy="457200"/>
            </a:xfrm>
          </p:grpSpPr>
          <p:sp>
            <p:nvSpPr>
              <p:cNvPr id="78" name="AutoShape 20"/>
              <p:cNvSpPr/>
              <p:nvPr/>
            </p:nvSpPr>
            <p:spPr>
              <a:xfrm>
                <a:off x="695160" y="4294080"/>
                <a:ext cx="16765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59595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2321969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AutoShape 49"/>
              <p:cNvSpPr/>
              <p:nvPr/>
            </p:nvSpPr>
            <p:spPr>
              <a:xfrm>
                <a:off x="711360" y="4316400"/>
                <a:ext cx="1638000" cy="419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7d7d7d"/>
                  </a:gs>
                </a:gsLst>
                <a:lin ang="2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Text Box 21"/>
              <p:cNvSpPr/>
              <p:nvPr/>
            </p:nvSpPr>
            <p:spPr>
              <a:xfrm>
                <a:off x="971640" y="4308480"/>
                <a:ext cx="12096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82520" indent="-182520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ffffff"/>
                    </a:solidFill>
                    <a:latin typeface="Arial"/>
                  </a:rPr>
                  <a:t>D. Risiko &amp; Sensitivität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54"/>
            <p:cNvGrpSpPr/>
            <p:nvPr/>
          </p:nvGrpSpPr>
          <p:grpSpPr>
            <a:xfrm>
              <a:off x="695160" y="3484440"/>
              <a:ext cx="1676520" cy="457200"/>
              <a:chOff x="695160" y="3484440"/>
              <a:chExt cx="1676520" cy="457200"/>
            </a:xfrm>
          </p:grpSpPr>
          <p:sp>
            <p:nvSpPr>
              <p:cNvPr id="82" name="AutoShape 17"/>
              <p:cNvSpPr/>
              <p:nvPr/>
            </p:nvSpPr>
            <p:spPr>
              <a:xfrm>
                <a:off x="695160" y="3484440"/>
                <a:ext cx="16765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59595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63504" dir="2216091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AutoShape 50"/>
              <p:cNvSpPr/>
              <p:nvPr/>
            </p:nvSpPr>
            <p:spPr>
              <a:xfrm>
                <a:off x="711360" y="3500280"/>
                <a:ext cx="1638000" cy="419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7d7d7d"/>
                  </a:gs>
                </a:gsLst>
                <a:lin ang="2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Text Box 18"/>
              <p:cNvSpPr/>
              <p:nvPr/>
            </p:nvSpPr>
            <p:spPr>
              <a:xfrm>
                <a:off x="977760" y="3575160"/>
                <a:ext cx="1143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ffffff"/>
                    </a:solidFill>
                    <a:latin typeface="Arial"/>
                  </a:rPr>
                  <a:t>C. Prognosen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53"/>
            <p:cNvGrpSpPr/>
            <p:nvPr/>
          </p:nvGrpSpPr>
          <p:grpSpPr>
            <a:xfrm>
              <a:off x="695160" y="2674800"/>
              <a:ext cx="1676520" cy="457200"/>
              <a:chOff x="695160" y="2674800"/>
              <a:chExt cx="1676520" cy="457200"/>
            </a:xfrm>
          </p:grpSpPr>
          <p:sp>
            <p:nvSpPr>
              <p:cNvPr id="86" name="AutoShape 11"/>
              <p:cNvSpPr/>
              <p:nvPr/>
            </p:nvSpPr>
            <p:spPr>
              <a:xfrm>
                <a:off x="695160" y="2674800"/>
                <a:ext cx="16765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59595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232196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AutoShape 51"/>
              <p:cNvSpPr/>
              <p:nvPr/>
            </p:nvSpPr>
            <p:spPr>
              <a:xfrm>
                <a:off x="711360" y="2693880"/>
                <a:ext cx="1638000" cy="419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7d7d7d"/>
                  </a:gs>
                </a:gsLst>
                <a:lin ang="2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Text Box 12"/>
              <p:cNvSpPr/>
              <p:nvPr/>
            </p:nvSpPr>
            <p:spPr>
              <a:xfrm>
                <a:off x="971640" y="2770200"/>
                <a:ext cx="10666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ffffff"/>
                    </a:solidFill>
                    <a:latin typeface="Arial"/>
                  </a:rPr>
                  <a:t>B. Methoden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688760" y="1987560"/>
            <a:ext cx="66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chaffung und Implementierung des DesignMax Systems nach Angebot von Avanti Integrators vom September 200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gebot beinhalt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0 Lizenzen der DesignMax Softwar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uf einer Datenbanklizenz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 der Entwickler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llständige Systemintegratio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ätzliche Hardwareanschaffungen im 2. und 3. Jahr nach der Implementierung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orhab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4"/>
          <p:cNvGrpSpPr/>
          <p:nvPr/>
        </p:nvGrpSpPr>
        <p:grpSpPr>
          <a:xfrm>
            <a:off x="379440" y="1127160"/>
            <a:ext cx="1676520" cy="457200"/>
            <a:chOff x="379440" y="1127160"/>
            <a:chExt cx="1676520" cy="457200"/>
          </a:xfrm>
        </p:grpSpPr>
        <p:sp>
          <p:nvSpPr>
            <p:cNvPr id="92" name="AutoShape 14"/>
            <p:cNvSpPr/>
            <p:nvPr/>
          </p:nvSpPr>
          <p:spPr>
            <a:xfrm>
              <a:off x="379440" y="11271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44"/>
            <p:cNvSpPr/>
            <p:nvPr/>
          </p:nvSpPr>
          <p:spPr>
            <a:xfrm>
              <a:off x="401400" y="114912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15"/>
            <p:cNvSpPr/>
            <p:nvPr/>
          </p:nvSpPr>
          <p:spPr>
            <a:xfrm>
              <a:off x="655560" y="1220760"/>
              <a:ext cx="124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A. Einleitung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692360" y="1984320"/>
            <a:ext cx="6665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reduzierung in Zielbereichen der Produktentwicklung und Produktfert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üllung der steigenden Anforderungen der Aerospace Kundsc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hr individuelle Design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nellere Reaktion auf Änderungswünsch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Kundenbetreuung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kürzung der Entwicklungszeit (Time to Mark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reichen der Zielwerte im Entwicklungsprozess soll Aerofirma ermöglichen den Marktanteil um 20% innerhalb von 3 Jahren zu erhö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ielwe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379440" y="1127160"/>
            <a:ext cx="1676520" cy="457200"/>
            <a:chOff x="379440" y="1127160"/>
            <a:chExt cx="1676520" cy="457200"/>
          </a:xfrm>
        </p:grpSpPr>
        <p:sp>
          <p:nvSpPr>
            <p:cNvPr id="98" name="AutoShape 14"/>
            <p:cNvSpPr/>
            <p:nvPr/>
          </p:nvSpPr>
          <p:spPr>
            <a:xfrm>
              <a:off x="379440" y="11271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AutoShape 44"/>
            <p:cNvSpPr/>
            <p:nvPr/>
          </p:nvSpPr>
          <p:spPr>
            <a:xfrm>
              <a:off x="401400" y="114912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655560" y="1220760"/>
              <a:ext cx="124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A. Einleitung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692360" y="2357280"/>
            <a:ext cx="70228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m Aerofirma Investitionskomitee alle entscheidungs-relevanten Finanzkennzahlen, Prognosen und Risikoanalysen zur Verfügung stellen, um über eine Annahme oder Ablehnung des DesignMax Projektes entscheiden zu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Entscheidung wird beim nächsten Treffen des Investitionskomitees am 3. Dezember 2007 getr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 des Business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379440" y="1127160"/>
            <a:ext cx="1676520" cy="457200"/>
            <a:chOff x="379440" y="1127160"/>
            <a:chExt cx="1676520" cy="457200"/>
          </a:xfrm>
        </p:grpSpPr>
        <p:sp>
          <p:nvSpPr>
            <p:cNvPr id="104" name="AutoShape 14"/>
            <p:cNvSpPr/>
            <p:nvPr/>
          </p:nvSpPr>
          <p:spPr>
            <a:xfrm>
              <a:off x="379440" y="11271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>
              <a:off x="401400" y="114912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655560" y="1220760"/>
              <a:ext cx="124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A. Einleitung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688760" y="1984320"/>
            <a:ext cx="7026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Investitionskomitee benötigt folgende Finanzkennzah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tal Cost of Ownership (TCO) über 3 Jahr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tto Cash Flow über 3 Jahre inkl. Kosten und Umsätz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ttobarwert über 3 Jahr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turn on Investment (ROI) über 3 Jahre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nose über Marktanteil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isiko und Sensitivitätsanaly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ritische Erfolgsfaktoren und alternative Szenarie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isikofaktoren und deren Einfluss auf das Ergebni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Finanzkennzahl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379440" y="1127160"/>
            <a:ext cx="1676520" cy="457200"/>
            <a:chOff x="379440" y="1127160"/>
            <a:chExt cx="1676520" cy="457200"/>
          </a:xfrm>
        </p:grpSpPr>
        <p:sp>
          <p:nvSpPr>
            <p:cNvPr id="110" name="AutoShape 14"/>
            <p:cNvSpPr/>
            <p:nvPr/>
          </p:nvSpPr>
          <p:spPr>
            <a:xfrm>
              <a:off x="379440" y="11271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44"/>
            <p:cNvSpPr/>
            <p:nvPr/>
          </p:nvSpPr>
          <p:spPr>
            <a:xfrm>
              <a:off x="401400" y="114912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655560" y="1220760"/>
              <a:ext cx="124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A. Einleitung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688760" y="2260080"/>
            <a:ext cx="70261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ysezeitraum: 1. Jan 2008 - 31. Dez 2010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eiligte Abteil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wicklung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rtigung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ndendiens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nd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sitz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Umfang und Abgrenz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379440" y="1127160"/>
            <a:ext cx="1676520" cy="457200"/>
            <a:chOff x="379440" y="1127160"/>
            <a:chExt cx="1676520" cy="457200"/>
          </a:xfrm>
        </p:grpSpPr>
        <p:sp>
          <p:nvSpPr>
            <p:cNvPr id="116" name="AutoShape 14"/>
            <p:cNvSpPr/>
            <p:nvPr/>
          </p:nvSpPr>
          <p:spPr>
            <a:xfrm>
              <a:off x="379440" y="11271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44"/>
            <p:cNvSpPr/>
            <p:nvPr/>
          </p:nvSpPr>
          <p:spPr>
            <a:xfrm>
              <a:off x="401400" y="114912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5"/>
            <p:cNvSpPr/>
            <p:nvPr/>
          </p:nvSpPr>
          <p:spPr>
            <a:xfrm>
              <a:off x="655560" y="1220760"/>
              <a:ext cx="124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A. Einleitung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687320" y="2760840"/>
            <a:ext cx="695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ueller Kurs &amp; Geschwind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 ist keine DesignMax Implementierung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plantes Investitionsvor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 ist Implementierung wie vorgeschlage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346480" y="901800"/>
            <a:ext cx="5868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alysierte Szenar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13"/>
          <p:cNvGrpSpPr/>
          <p:nvPr/>
        </p:nvGrpSpPr>
        <p:grpSpPr>
          <a:xfrm>
            <a:off x="379440" y="1125360"/>
            <a:ext cx="1676520" cy="457200"/>
            <a:chOff x="379440" y="1125360"/>
            <a:chExt cx="1676520" cy="457200"/>
          </a:xfrm>
        </p:grpSpPr>
        <p:sp>
          <p:nvSpPr>
            <p:cNvPr id="122" name="AutoShape 11"/>
            <p:cNvSpPr/>
            <p:nvPr/>
          </p:nvSpPr>
          <p:spPr>
            <a:xfrm>
              <a:off x="379440" y="1125360"/>
              <a:ext cx="1676520" cy="45720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AutoShape 51"/>
            <p:cNvSpPr/>
            <p:nvPr/>
          </p:nvSpPr>
          <p:spPr>
            <a:xfrm>
              <a:off x="395280" y="1144080"/>
              <a:ext cx="1638720" cy="41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7d7d7d"/>
                </a:gs>
              </a:gsLst>
              <a:lin ang="2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12"/>
            <p:cNvSpPr/>
            <p:nvPr/>
          </p:nvSpPr>
          <p:spPr>
            <a:xfrm>
              <a:off x="655560" y="122040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B. Methoden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6T15:59:56Z</dcterms:created>
  <dc:creator>Johannes Ritter &amp; Frank Röttgers</dc:creator>
  <dc:description/>
  <dc:language>en-US</dc:language>
  <cp:lastModifiedBy>z</cp:lastModifiedBy>
  <cp:lastPrinted>2004-09-22T07:37:13Z</cp:lastPrinted>
  <dcterms:modified xsi:type="dcterms:W3CDTF">2009-08-27T13:14:44Z</dcterms:modified>
  <cp:revision>156</cp:revision>
  <dc:subject/>
  <dc:title>Präsentationsvorlage</dc:title>
</cp:coreProperties>
</file>